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CD7-9ED0-4F18-AA69-C60C1046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A16-1F1C-4CE5-A427-8A516AD9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136-B755-48A2-AEDC-27A23CEC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2E8-668A-4D18-A322-E531D63B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432C-5AAC-4E9B-A1E0-ED0FF5EA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3C46-160B-4AA1-9240-711A90C7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5475-9034-4479-8AEF-D2030091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7360-E478-47F4-A2B7-EC202C78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3526-8210-4902-AFF2-2867912F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7132-5835-4F51-ABAE-6CFEDFA8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077C-FAAB-46E9-B5D2-5659B64B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E90-2813-456F-B6BF-B2A30976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6881-2772-4121-9486-4D9B9F5C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1C31-4325-44C2-854E-CF5D369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4593-6ABB-47B0-80D1-CF349DDC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2B66-805B-4660-A06A-9FD81EA3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CB58-94DA-4AA2-90BF-0B01CE58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520-6B32-45EA-84AC-EC484C93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B52-849B-4E4F-933B-D5A492B9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2C8-38BE-4F95-9234-C4BE0FAC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5B5-7793-4EC8-99A7-EA391EE4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5CD-BAAE-4C7F-BFD8-6206E2B0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DF4-27B4-4D4F-AF21-0F61B4D9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1C3-70A6-4236-9F87-48F5ED91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4F07-0175-4AA6-806C-7FDC5A31E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B14C-8B00-48B2-B944-6AD722595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6 CuadroTexto"/>
          <p:cNvSpPr/>
          <p:nvPr/>
        </p:nvSpPr>
        <p:spPr>
          <a:xfrm>
            <a:off x="2268360" y="602136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  <a:ea typeface="Arial"/>
              </a:rPr>
              <a:t>Viña del Mar, 12  de mayo de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87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derazgo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bajo en equipo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o directivo : Coordinación de tareas, perseverancia del equipo en el cumplimiento de actividades y  las repuestas a actividades emergentes como equi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niones del equipo directivo para evaluar y desarrollar actividades sema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o de Gestión : articular las acciones entorno al PEI y P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a Organizacional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de un sistema de practicas de planificación institucional anual y su monitoreo de avances para mejorar la organización escolar, basado en la calendarización mensual  con objetivos y accio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3"/>
          <p:cNvSpPr/>
          <p:nvPr/>
        </p:nvSpPr>
        <p:spPr>
          <a:xfrm>
            <a:off x="2987640" y="981000"/>
            <a:ext cx="3313080" cy="36036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1. Énfasis de las asignaturas 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4"/>
          <p:cNvSpPr/>
          <p:nvPr/>
        </p:nvSpPr>
        <p:spPr>
          <a:xfrm rot="16200000">
            <a:off x="-1296720" y="3176280"/>
            <a:ext cx="3313080" cy="36036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2. Cobertura curricular 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755640" y="1484280"/>
            <a:ext cx="2303640" cy="792360"/>
          </a:xfrm>
          <a:prstGeom prst="rect">
            <a:avLst/>
          </a:prstGeom>
          <a:solidFill>
            <a:srgbClr val="0068ae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 Narrow"/>
              </a:rPr>
              <a:t>Currículum oficial *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 Narrow"/>
              </a:rPr>
              <a:t>(‘prometido’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2"/>
          <p:cNvSpPr/>
          <p:nvPr/>
        </p:nvSpPr>
        <p:spPr>
          <a:xfrm>
            <a:off x="971640" y="263700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8ae"/>
                </a:solidFill>
                <a:latin typeface="Arial Narrow"/>
              </a:rPr>
              <a:t>grad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755640" y="3284640"/>
            <a:ext cx="2209680" cy="647640"/>
          </a:xfrm>
          <a:prstGeom prst="rect">
            <a:avLst/>
          </a:prstGeom>
          <a:solidFill>
            <a:srgbClr val="0068ae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 Narrow"/>
              </a:rPr>
              <a:t>Planificación 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Narrow"/>
              </a:rPr>
              <a:t>(cuadro sinóptic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9"/>
          <p:cNvSpPr/>
          <p:nvPr/>
        </p:nvSpPr>
        <p:spPr>
          <a:xfrm>
            <a:off x="755640" y="4437000"/>
            <a:ext cx="2209680" cy="647640"/>
          </a:xfrm>
          <a:prstGeom prst="rect">
            <a:avLst/>
          </a:prstGeom>
          <a:solidFill>
            <a:srgbClr val="0068ae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 Narrow"/>
              </a:rPr>
              <a:t>Planificación de cl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 Narrow"/>
              </a:rPr>
              <a:t>(unidad, clase a cl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5"/>
          <p:cNvSpPr/>
          <p:nvPr/>
        </p:nvSpPr>
        <p:spPr>
          <a:xfrm>
            <a:off x="3851280" y="1773360"/>
            <a:ext cx="14032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 Narrow"/>
              </a:rPr>
              <a:t>Conversa entre prof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492360" y="2565360"/>
            <a:ext cx="2378160" cy="649440"/>
          </a:xfrm>
          <a:prstGeom prst="rect">
            <a:avLst/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 Narrow"/>
              </a:rPr>
              <a:t>Currícul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 Narrow"/>
              </a:rPr>
              <a:t>implemen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635280" y="3716280"/>
            <a:ext cx="2210040" cy="432000"/>
          </a:xfrm>
          <a:prstGeom prst="rect">
            <a:avLst/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 Narrow"/>
              </a:rPr>
              <a:t>cuader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3564000" y="4365720"/>
            <a:ext cx="2305080" cy="647640"/>
          </a:xfrm>
          <a:prstGeom prst="rect">
            <a:avLst/>
          </a:prstGeom>
          <a:solidFill>
            <a:srgbClr val="cc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8ae8"/>
                </a:solidFill>
                <a:latin typeface="Arial Narrow"/>
              </a:rPr>
              <a:t>Observación de a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8ae8"/>
                </a:solidFill>
                <a:latin typeface="Arial Narrow"/>
              </a:rPr>
              <a:t>(metodologí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7"/>
          <p:cNvSpPr/>
          <p:nvPr/>
        </p:nvSpPr>
        <p:spPr>
          <a:xfrm>
            <a:off x="6156360" y="2997360"/>
            <a:ext cx="2290680" cy="644400"/>
          </a:xfrm>
          <a:prstGeom prst="rect">
            <a:avLst/>
          </a:prstGeom>
          <a:solidFill>
            <a:srgbClr val="33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 Narrow"/>
              </a:rPr>
              <a:t>Currículum aprend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 Narrow"/>
              </a:rPr>
              <a:t>(evaluad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6227640" y="4437000"/>
            <a:ext cx="2159280" cy="426960"/>
          </a:xfrm>
          <a:prstGeom prst="rect">
            <a:avLst/>
          </a:prstGeom>
          <a:solidFill>
            <a:srgbClr val="33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Arial Narrow"/>
              </a:rPr>
              <a:t>prueb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55"/>
          <p:cNvSpPr/>
          <p:nvPr/>
        </p:nvSpPr>
        <p:spPr>
          <a:xfrm rot="5400000">
            <a:off x="7163280" y="3285360"/>
            <a:ext cx="3313080" cy="28908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3. Tiemp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6"/>
          <p:cNvSpPr/>
          <p:nvPr/>
        </p:nvSpPr>
        <p:spPr>
          <a:xfrm>
            <a:off x="2411280" y="5805360"/>
            <a:ext cx="3961080" cy="28908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4. Rango de habilidades cognitiv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179280" y="1341360"/>
            <a:ext cx="8785440" cy="4465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49"/>
          <p:cNvSpPr/>
          <p:nvPr/>
        </p:nvSpPr>
        <p:spPr>
          <a:xfrm>
            <a:off x="1835280" y="2349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50"/>
          <p:cNvSpPr/>
          <p:nvPr/>
        </p:nvSpPr>
        <p:spPr>
          <a:xfrm>
            <a:off x="1835280" y="400536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4643280" y="2205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7"/>
          <p:cNvSpPr/>
          <p:nvPr/>
        </p:nvSpPr>
        <p:spPr>
          <a:xfrm>
            <a:off x="3203640" y="2781360"/>
            <a:ext cx="0" cy="20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48"/>
          <p:cNvSpPr/>
          <p:nvPr/>
        </p:nvSpPr>
        <p:spPr>
          <a:xfrm>
            <a:off x="3203640" y="479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46"/>
          <p:cNvSpPr/>
          <p:nvPr/>
        </p:nvSpPr>
        <p:spPr>
          <a:xfrm flipH="1">
            <a:off x="3203640" y="2781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4716360" y="3284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42"/>
          <p:cNvSpPr/>
          <p:nvPr/>
        </p:nvSpPr>
        <p:spPr>
          <a:xfrm>
            <a:off x="5940360" y="2565360"/>
            <a:ext cx="100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43"/>
          <p:cNvSpPr/>
          <p:nvPr/>
        </p:nvSpPr>
        <p:spPr>
          <a:xfrm>
            <a:off x="6948360" y="2565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44"/>
          <p:cNvSpPr/>
          <p:nvPr/>
        </p:nvSpPr>
        <p:spPr>
          <a:xfrm>
            <a:off x="7093080" y="3716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2205000"/>
            <a:ext cx="2880000" cy="30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2708280"/>
            <a:ext cx="244800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628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seguramiento del aprendizaje efectivo en el aula</a:t>
            </a:r>
            <a:endParaRPr b="0" lang="en-US" sz="27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lementación curricular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ía de roles y funciones técnicas de jefa de UT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ciones en reuniones equipo directivo, EGE ,CONSEJO ESCOLAR ,E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ción de diseño curricular : planificación anual y planificación dia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eres técnicos realizados en consejo técn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a al a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eo de avances de aprendizajes (con docentes y profesionales SEP ) y análisis de resultados implementación  plan remedi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68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68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68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ivenci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bajo en equipo con asistentes de la educación (coordinador de pabellones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bajo constante acerca de problemas conductu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cion de un sistema y seguimiento de alumnos con problemas conduct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ivación de casos conflictivos a equipo multidisciplinario (sicóloga y asistente social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68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68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68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a comprometi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ción en los alumnos de una cultura comprometida basada 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gencia de asistencia y puntu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eo diario de alumnos inasist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io al curso con mejor asis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gencia de mejoramiento en presentación pers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bajo constante y permanente del respeto a si mismo y hacia los demá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bajo permanente con los apoderados de responsabilidad con ellos y con los alum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68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68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68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2:50:35Z</dcterms:created>
  <dc:creator>corporacion</dc:creator>
  <dc:description/>
  <dc:language>en-US</dc:language>
  <cp:lastModifiedBy>corporacion</cp:lastModifiedBy>
  <dcterms:modified xsi:type="dcterms:W3CDTF">2011-05-11T19:30:52Z</dcterms:modified>
  <cp:revision>6</cp:revision>
  <dc:subject/>
  <dc:title>Diapositiva 1</dc:title>
</cp:coreProperties>
</file>